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759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556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1000" y="1212840"/>
            <a:ext cx="7230960" cy="539640"/>
          </a:xfrm>
          <a:prstGeom prst="rect">
            <a:avLst/>
          </a:prstGeom>
          <a:solidFill>
            <a:srgbClr val="003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80" y="6480"/>
            <a:ext cx="10272600" cy="1199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828440"/>
            <a:ext cx="87436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The Days of the Judg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81360" y="3733920"/>
            <a:ext cx="4724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rter 3, Lesson 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udges 17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ges 115-1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eanwhile, The Danites Seek A New Home – 18:1-31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Danites Learn of The Priest At Micah’s 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sk His Blessings In Seeking A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urvey Laish And Find It Attr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spies report the condition of the people and the land?  (18: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ople are secure and the land is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lace where there is no want of any thing that is in the earth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22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14880" y="1143000"/>
            <a:ext cx="6972120" cy="5715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305240" y="2860560"/>
            <a:ext cx="1363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ish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5829480" y="3429000"/>
            <a:ext cx="914400" cy="2286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790280" y="1294920"/>
            <a:ext cx="2590920" cy="17528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028880" y="1294920"/>
            <a:ext cx="685800" cy="2210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95760" y="380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Ephraim To 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eanwhile, The Danites Seek A New Home – 18:1-21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Danites Learn of The Priest At Micah’s 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sk His Blessings In Seeking A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urvey Laish And Find It Attr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Return Home And Recommend The Taking of Laish For A Home Place   (8-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end 600 Men of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Way They Carry Off Micah’s Priest &amp; Idols    (11-2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icah’s Response – 18:22-26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and His Friends Pursue The Dan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Returned Home After Being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hat way was Jonathan a “son” of Gershom?  (18: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in the “linage” of Gershom who was the first-born son of Moses and Zipporah.  (Ex.2:22; 18: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71120" y="1980720"/>
            <a:ext cx="87440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 Laish was called _______ after the Danites took it over.  (18:2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8002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Danites Take Laish – 18:27-31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8156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Danites Take Laish – 18:27-31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640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ed the 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t Their Own City, 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e Jonathan and His Sons Their Pri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Up The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petuate The Ignorance And Will-Wo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62640" y="1143000"/>
            <a:ext cx="3581640" cy="2617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62640" y="3886200"/>
            <a:ext cx="358164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62440" y="2133720"/>
            <a:ext cx="15242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tress Walls &amp; Gates of D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haps Built In Days of Ah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y Worshiped At The Shrine In Dan Until The Captivit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1480" y="1980720"/>
            <a:ext cx="9020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 What were “the days of the captivity of the land”?  (18: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have been the Assyrian captivity,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ould have been some captivity we are not told about,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dam Clarke says in his commentary, “until the day of captivity of the ark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evident; and on this very ground Houbigant contends that, instead of 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אר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arets, the Land, we should read 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אר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aron, the Ark; for nothing is easier than the 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ו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u and final nun to be mistaken for the 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 tsade, which is the only difference between the captivity of the Land and the captivity of the 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Migration of the Danit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ons of Religion and Life With No Com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Every Man Does What Is Right In His Own Eyes – 17: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Is Believed To Approve What We Ap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Approve of Statues &amp; Images, We Think God Appro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se Two Chapters We See How This Mentality Worked In Isr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y Worshiped At The Shrine In Dan Until The Captivit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9020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This The Assyrian Captivity?  (18: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Time The Tabernacle Was In Shiloh   (3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rk Was Taken Away In The Days of Eli &amp; Samuel   (1 Sam. 4-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ecord of Tabernacle Staying In Shiloh After This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There May Have Been Another Brief Captivity During The Period of the Jud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624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10.  Name the eight periods of Bible history thus far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1120" y="1752480"/>
            <a:ext cx="87440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on St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ttering of the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triarc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x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nde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quest of Can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ud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Micah set up in his hou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aven image and a molten image.  He had a house of gods and made an ephod,  and teraphim (images of household gods).  (17:4-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Micah feel about the Levitical priest whom he hir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like a father and a priest…and the young man was unto Micah as one of his sons.  (17:10-1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Micah offer the Levi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 shekels of silver, a change of clothes each year and his food.  (17: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icah and His Idol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17:1-13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a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Ephraim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 A Religiously Confused M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Stores Images In His 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 a Shrine 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dicates a Son As Pri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ter, Supports A Levite To Be His Pri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haps This Makes The Idolatry Have A Sense of Legitim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48240" y="1752480"/>
            <a:ext cx="4838760" cy="510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 txBox="1"/>
          <p:nvPr/>
        </p:nvSpPr>
        <p:spPr>
          <a:xfrm>
            <a:off x="5524560" y="3733920"/>
            <a:ext cx="129528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phrai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6134040" y="4495680"/>
            <a:ext cx="1143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eanwhile, The Danites Seek A New Home – 18:1-31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3960" y="2133720"/>
            <a:ext cx="8639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econd census taken, Dan was the second largest tribe with 64,400 men twenty and older.  (Num. 26:42-43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ibe of Dan was the last to be assigned land.  (Josh. 19:4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forced into the mountains by the Amorites.  (Judges 1:3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son will later come from a family who was of the remnant of Dan.  (Judges 18: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204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Information about the tribe of D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eanwhile, The Danites Seek A New Home – 18:1-21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86392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as the tribe of Dan seek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heritance to dwell in.  (18: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hey were a large tribe with a small land area assigned to them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the spies find surprising at Micah’s house?  (18:1-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found a Levite and knew he did not belong t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2T19:14:18Z</dcterms:created>
  <dc:creator>Jerry Feil</dc:creator>
  <dc:description/>
  <cp:keywords/>
  <dc:language>en-US</dc:language>
  <cp:lastModifiedBy>Frank D Vines</cp:lastModifiedBy>
  <cp:lastPrinted>31144-05-17T21:17:18Z</cp:lastPrinted>
  <dcterms:modified xsi:type="dcterms:W3CDTF">2008-12-20T17:01:12Z</dcterms:modified>
  <cp:revision>23</cp:revision>
  <dc:subject/>
  <dc:title>title</dc:title>
</cp:coreProperties>
</file>